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0.wmf" ContentType="image/x-wmf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C606-C56D-43EC-8E16-981ECF239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76520" y="167616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76520" y="394488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9300-79A5-4FB9-890E-11F45D19F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76520" y="16761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25200" y="16761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76520" y="394488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25200" y="394488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10E2-57B3-4BA2-818C-3EEA1ADA0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520" y="167616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49720" y="167616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2920" y="167616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76520" y="394488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49720" y="394488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2920" y="394488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1C56-7050-42AB-B2F4-B160E4CEE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735F0-90D6-45D3-9D33-C2BE50686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676520" y="16761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46FD8-FBEC-4D50-9B8B-EB6FA733F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676520" y="16761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34124-1EAB-4B52-B1A7-0A17FC38C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520" y="167616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25200" y="167616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1FB3C-9223-4FF6-9544-EB865248F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82789-C4A4-46C4-B8D0-0C19673AF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676520" y="199800"/>
            <a:ext cx="7300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19ED3-1ED1-4366-BC66-EDB8199F7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76520" y="16761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25200" y="167616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676520" y="394488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F0C7E-9FD1-4980-B302-758A7A89F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76520" y="16761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C782-5796-491F-8E72-B178BDA6D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676520" y="167616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25200" y="16761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25200" y="394488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8B930-8C43-4D27-BF31-01FD75559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76520" y="16761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25200" y="16761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676520" y="394488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F123B-74C5-4B0D-846C-9865F4189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76520" y="167616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676520" y="394488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E2FFE-ED25-4B87-AC5D-CF14CDFB3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76520" y="16761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25200" y="16761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676520" y="394488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25200" y="394488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DE802-B0BD-4E27-96B1-41271E154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76520" y="167616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49720" y="167616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2920" y="167616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676520" y="394488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49720" y="394488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22920" y="394488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4B805-1401-4450-9BEF-08C009C8F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25C72-1B7F-461C-A849-6C3BDD99B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676520" y="16761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AFE60-AE98-4CF7-947F-A51A1410E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76520" y="16761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A8484-3726-4DDE-B6F3-C806E5F7D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520" y="167616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425200" y="167616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555B9-00CE-4493-A16A-1B939385B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6AF62-A24C-413E-9BDB-CCFA43AFE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76520" y="16761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26CF-C100-4962-88A8-F69D8256A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676520" y="199800"/>
            <a:ext cx="7300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7203E-8643-411F-9929-B58ED5881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676520" y="16761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425200" y="167616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676520" y="394488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80037-7550-4F99-800E-881F2313F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676520" y="167616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425200" y="16761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425200" y="394488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FEDB3-DBB0-48D0-A6B0-D90B0E0CF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676520" y="16761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425200" y="16761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676520" y="394488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DD192-299E-451C-BAE7-DD71A2FF0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676520" y="167616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676520" y="394488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2AB38-42C6-4087-8119-C1E3C917C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676520" y="16761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425200" y="16761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676520" y="394488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425200" y="394488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3FCAB-89AF-478B-828C-782D3E9EC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76520" y="167616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149720" y="167616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22920" y="167616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676520" y="394488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149720" y="394488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622920" y="394488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60978-3673-4F41-B17E-0B739786E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76520" y="167616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25200" y="167616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EAF8-7791-40E6-992E-02393867E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1330-3DCF-4E57-9379-7820A5C23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76520" y="199800"/>
            <a:ext cx="7300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3D3E-9ABB-4621-A23F-8843E78FA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76520" y="16761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25200" y="167616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76520" y="394488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EA70-31BF-4BDA-885C-CB8DC1EBC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76520" y="167616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25200" y="16761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25200" y="394488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3C36-66EC-4E6F-9EA3-7138F176B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76520" y="16761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25200" y="16761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76520" y="394488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28CC-A7A8-42A8-BF84-467E19104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520" y="16761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2A17F-06C1-48E5-99FE-9AA9ACE303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305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D9DC3-F8D4-46CF-B7F4-D5CF6F4062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845F4-0DA3-4522-B555-53DC6CD15E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ndows Movie Ma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MS Tech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gust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ould I use Movie Maker with my stu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676520" y="16761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ease take a post it n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your content are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your ideas – how could you use this in your clas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try out Windows Movie Mak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676520" y="16761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114800" y="2209680"/>
            <a:ext cx="192888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media can I us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676520" y="16761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de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nd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7162920" y="68580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3962520" y="167652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3352680" y="4800600"/>
            <a:ext cx="205740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7 elements of Storyte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676520" y="1447920"/>
            <a:ext cx="7238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int of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lling your story from one perspe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amatic Qu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the hook, the opening statement that draws in the audien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otional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part of the story to which others can relat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good narrator can give the story personality and make it better than using text alo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undtr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enhance the story establish the mood if chosen wise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c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eping your script brief makes the writer focus on maintaining the central focus of the sto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rhythm of the story determines much of what holds and audience’s intere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oryboar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676520" y="16761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toryboard is a series of diagrams that are used to depict the composition of a video seg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re used by designers to illustrate and organize their ideas and obtain feedbac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re particularly useful planning for multi-media presenta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0T15:45:54Z</dcterms:created>
  <dc:creator>Nicole</dc:creator>
  <dc:description/>
  <cp:keywords/>
  <dc:language>en-US</dc:language>
  <cp:lastModifiedBy>Nicole</cp:lastModifiedBy>
  <dcterms:modified xsi:type="dcterms:W3CDTF">2009-08-28T01:01:54Z</dcterms:modified>
  <cp:revision>10</cp:revision>
  <dc:subject/>
  <dc:title>Windows Movie Make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885661033</vt:lpwstr>
  </property>
</Properties>
</file>